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F0E-FF50-47F5-B749-C7E1EEEA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106-D6B4-4CF3-9597-A132E78F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8D6-1305-408F-B3CF-BDE76EE1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6B2-4A30-4775-B0A7-DE0D247C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365F-0EBE-4B98-B12F-D19B1F97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A5DA-E2AC-4F6C-B0A2-D3B65E0D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84B7-652D-441A-942D-95BAFF62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1BD8-113D-47E3-A8A8-B0920B78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EFBB-24E0-4F70-B91D-E0DBDF35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70F1-E2BB-456E-9630-4AAACC5F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B18E-70E0-45E7-837A-26D5D426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0F2-1B20-4B17-9BE3-C6AA13B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C967-84FB-496C-AF60-DB5DF0C9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EB79-1ED7-432E-8088-44283F24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16D1-08F3-4DD8-AAF8-9B986607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C366-29F5-457E-B2CC-701A6835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283A-4951-42A4-BF31-595BBF59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140-3EFA-4761-942C-236E0493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6CC-714C-4C05-8051-C94FB044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B3A-8138-4C30-9FA5-E71E743C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DAC-66C7-429F-89DC-C01D347B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553-38B3-42E2-93C4-F46D1A1B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32F-D3B3-43A7-A493-BD16BF7D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E2A-CBA9-4759-B013-A4431884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5AE1-7B86-4EF7-BC72-7DF66C2A1C7C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969B-C88F-4355-92FF-3DA6D228F091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hyperlink" Target="http://www.worlrdbank.org/" TargetMode="External"/><Relationship Id="rId3" Type="http://schemas.openxmlformats.org/officeDocument/2006/relationships/hyperlink" Target="http://www.unido.org/" TargetMode="External"/><Relationship Id="rId4" Type="http://schemas.openxmlformats.org/officeDocument/2006/relationships/hyperlink" Target="http://www.oecd.org/" TargetMode="External"/><Relationship Id="rId5" Type="http://schemas.openxmlformats.org/officeDocument/2006/relationships/hyperlink" Target="http://scholar.google.com/" TargetMode="External"/><Relationship Id="rId6" Type="http://schemas.openxmlformats.org/officeDocument/2006/relationships/hyperlink" Target="http://www.ljmu.ac.uk/" TargetMode="External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ing  new competencies and  Vocational Profiles  need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vide Branco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Laurea, MA, MSc (executive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22t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Community Manager (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good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Community 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support Community  Manager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monitoring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l education at secondary level, University education degree for volunteers’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local partners and stakehold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imum organizational skills especially in delivery of clear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relevant experience in the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i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sensitivity to human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character able to accept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. Social Enterprise Trainer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5 years’ relevan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experience in similar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training and  business developmen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pecialized in Soci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of standard and specific IT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and Certif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cise and searching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ment skills to understand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importance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1: Analysis of existing/potenti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316160"/>
          <a:ext cx="8713800" cy="4700520"/>
        </p:xfrm>
        <a:graphic>
          <a:graphicData uri="http://schemas.openxmlformats.org/drawingml/2006/table">
            <a:tbl>
              <a:tblPr/>
              <a:tblGrid>
                <a:gridCol w="716040"/>
                <a:gridCol w="4829040"/>
                <a:gridCol w="1728720"/>
                <a:gridCol w="14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Impor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687240"/>
                <a:gridCol w="5156280"/>
                <a:gridCol w="1224000"/>
                <a:gridCol w="12952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nalysi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existing and potential impor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Effectivenes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their effectiveness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Level of maturity of S.L.E.P.T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(social, legal, economical, political, technological) sub- 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absorbe changes and to evaluate the time to introduce new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entative opportunity list of vocational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who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5: Level of matching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between potential new profiles obtained by comparison and level of S.L.E.P.T. maturity in Sloven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 list all suitable, feasible and acceptable 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otential 5 best  vocational new profiles in Sloveni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finally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effectiveness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2: Effectiveness of existing/potential 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348080"/>
        </p:xfrm>
        <a:graphic>
          <a:graphicData uri="http://schemas.openxmlformats.org/drawingml/2006/table">
            <a:tbl>
              <a:tblPr/>
              <a:tblGrid>
                <a:gridCol w="676440"/>
                <a:gridCol w="4518000"/>
                <a:gridCol w="1800000"/>
                <a:gridCol w="123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440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SLEPT Indicator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maturity)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ARNING: on real SLEPT to be considered at Local Leve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3: Level of maturity of S.L.E.P.T. (social, legal, economical, political, technological) sub-environment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not mature - 5 very m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622760"/>
        </p:xfrm>
        <a:graphic>
          <a:graphicData uri="http://schemas.openxmlformats.org/drawingml/2006/table">
            <a:tbl>
              <a:tblPr/>
              <a:tblGrid>
                <a:gridCol w="676080"/>
                <a:gridCol w="4795920"/>
                <a:gridCol w="1295640"/>
                <a:gridCol w="14619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274680"/>
          <a:ext cx="8229600" cy="587700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368360"/>
                <a:gridCol w="137808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opportunity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 (who start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4: Tentative opportunity list of vocation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91520" cy="4492800"/>
        </p:xfrm>
        <a:graphic>
          <a:graphicData uri="http://schemas.openxmlformats.org/drawingml/2006/table">
            <a:tbl>
              <a:tblPr/>
              <a:tblGrid>
                <a:gridCol w="681120"/>
                <a:gridCol w="4657680"/>
                <a:gridCol w="1440000"/>
                <a:gridCol w="15127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’ Opportunity (who fir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5022720"/>
                <a:gridCol w="1224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-SLEPT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A-F-S) to each matching level o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(1/3 A+1/3 B+1/3 C) to each profile’s  SLEPT match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liminar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read some material (</a:t>
            </a: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you remember the Stakeholders’ analysis in Slove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get some “feelings” from the existing situation on the field (homework for previous modul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lease, give shortly your feed-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5: Level of matching between potential new profiles obtained by comparison and level of S.L.E.P.T. maturity in Slovenia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1 very low – 5 very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413000"/>
          <a:ext cx="8507520" cy="4773600"/>
        </p:xfrm>
        <a:graphic>
          <a:graphicData uri="http://schemas.openxmlformats.org/drawingml/2006/table">
            <a:tbl>
              <a:tblPr/>
              <a:tblGrid>
                <a:gridCol w="674640"/>
                <a:gridCol w="2792520"/>
                <a:gridCol w="1800000"/>
                <a:gridCol w="1727280"/>
                <a:gridCol w="1513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p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i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57200" y="274680"/>
          <a:ext cx="8229600" cy="5915160"/>
        </p:xfrm>
        <a:graphic>
          <a:graphicData uri="http://schemas.openxmlformats.org/drawingml/2006/table">
            <a:tbl>
              <a:tblPr/>
              <a:tblGrid>
                <a:gridCol w="860400"/>
                <a:gridCol w="5176800"/>
                <a:gridCol w="219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1/3 A+1/3 B+1/3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he Facilitator, together with the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ists all outcomes form previous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ct the 5 Best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weight (importance) to each Profile for each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Final rank to eac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ime: 20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: Final List of potential 5 best  vocational new profiles in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271520"/>
          <a:ext cx="8229600" cy="4773600"/>
        </p:xfrm>
        <a:graphic>
          <a:graphicData uri="http://schemas.openxmlformats.org/drawingml/2006/table">
            <a:tbl>
              <a:tblPr/>
              <a:tblGrid>
                <a:gridCol w="639720"/>
                <a:gridCol w="26528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or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port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nal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 defined framework positions at middle and high level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about vocational profiles to be identified by the product/service they are dealing with generated by the creativity of the social entrepreneur and managed by the social ma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n other words: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ho play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entrepreneur who has an idea with social impact and became a social entrepreneur or the product/service which defines the profiles…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re are thousands of products/services which can be generated by the idea of the social entrepreneurs and who require specific qualified people to work on at levels lower then management and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ere some examples of profiles as a result of product/service the social enterprise deal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cycling old PC 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ultural Heritage Protection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people trained to understand and mantain cultural herit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airtrade           need people to be trained to use/to create their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andcraf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mbling          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atering            need  people trained to be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waiters, chef assistant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eaning cooperative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rofessional clea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duction            needs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sewing for example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House maintenance cooperative           need people trained in different houseworks: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gardeners, cleaners, bricklay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nting House Cooperative           need people trained to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 Maste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and trained on the job by the Master..)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business Cooperative 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culture 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cattle care workers, fields workers,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derly House Cooperative          need people trained as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volunteer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support paramedic, doctors,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io-product agri-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urism           need people trained in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many position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…..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many mor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Do not move to next slid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ntify max 5 Vocational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cribe those ma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the SLEPT characteristics allow A.F.S.? (remember Step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local environment has the needed skills and competence to be train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the managerial skills to ensure effectiv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.and mo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the end what is the 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Creativit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generate an entrepreneurial idea,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managerial skill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manage effectively and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qualified labour forc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implement/to produ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se the templates only as a base for your fiel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rame the templates to your specific environment and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“PhD attitude” t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oncentrate on details by forgetting wider view and results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ople must be stimulated (facilitated) to learn not “forced to learn” by classic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sults (jobs generated, new social enterprises, income generated,…) do measure the real impact, not “academic” pap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mpathy will help you more then knowledge: either you have it or no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You are dealing in a very specific fiel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key internet 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worldbank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unido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oecd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 email info: register at: My OE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scholar.google.c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ljmu.ac.u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netlibrary; cl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Thank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y Davide Br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davide.branco@cid-b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10 KEY Vocational Profi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84920"/>
            <a:ext cx="820908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Social Enterpris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Manager (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As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Social Enterprise Trainer(Facilit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untries where mainly those exist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and/or regulate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552680"/>
            <a:ext cx="84978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EU15, Scandinavia, Italy, Germany, UK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Few EU15,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Few EU15, UK and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V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few EU15, Italy (30%) and Germany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Description of Vocational Prof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435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4963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al Enterpris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No wish of getting high salary!!…..(a part of USA….90,000 US $!!)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pecialized in C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09-21T06:46:37Z</dcterms:modified>
  <cp:revision>62</cp:revision>
  <dc:subject/>
  <dc:title>Diapozitiv 1</dc:title>
</cp:coreProperties>
</file>